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move the slide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A4BC5-50E9-4CF7-B1F6-57C654813FF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BBC17-4D9C-4897-A17C-ADA1EC3B6E4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0090E-6F79-4650-B99C-64E8566C606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3EC4-C0A5-43B9-A5EF-9FEB4B9EC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5546-D330-4563-B415-F18D8467F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F5767E-F5FD-4A2A-9DFA-22A8BE39A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33609A-063D-4717-86D7-5B87E489B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F71836-93F0-4DFE-91A4-87BD3668E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41344D-8BBD-42A6-A7DF-1EC4198F6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FF9B0B-61B7-4EE6-95DC-AE793722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67764F-7E6D-4B14-957F-D1C16908D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074C4F-F1EC-48E6-B67B-D46046B86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D26094-B06A-4CE5-BC4C-8E1EAE2F7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3614A1-87CF-4124-8B77-6BC5CCB09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1362BB-995A-4D23-AE61-688EDED03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F224-0DFC-4797-9BC4-EF0A11849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267DEE-ABA8-4CAC-A830-267DA8043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C90A52-EBF8-4E1C-9621-8558A1D29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859481-24C6-4983-8AE1-1C31C6A63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3CAFAF-4858-4B6E-99AD-0F9C37B40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EE6469-D5AB-4D3B-B93E-63E49C383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6BDA4A-7EC1-4E37-BACB-0044A1AD7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FA6E86-6A39-457D-926F-475B7CAC8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ADBFF7-13AF-46AA-9114-D5663D147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8759C8-6CE5-40A9-90DD-E93B62068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19D61A-C46F-4099-8873-DA78B22FD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DF03-BA89-4043-8CFE-FB300B44C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CD4FD4-3C3C-431D-A1E4-838E9BB61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588786-C63C-41F9-846E-ACCBEE7E2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50808E-985F-435C-BAEB-20B5439B6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85DED6-61E9-4E4D-8572-A0EBF7B62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B3F923-92A0-44B7-B18D-26562B932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2E8DAB-67C8-4850-BD1C-5966EA21A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4F5B1F-0F22-4F2B-B416-1656D0F0F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B52479-DE2E-400C-8E7F-6B347EFE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ADE350-3E52-41FB-AEEB-C2C399EB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FAE5EB-C781-4CC0-9FAF-6B8FA49D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65A88-ADAB-4D73-8515-42B1A4A62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D8935A-DAF6-422B-831B-27CEE10E8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54FB03-3758-42D3-BF9E-46699A99F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38198A-6C13-4996-8ABE-2522AC280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4290F-99FE-41A0-B662-DD0F562F1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B190B-A3D8-4F85-A401-6D7599F29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7C765-6AC1-4F99-A62F-6C6B85B28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607CD-A263-46A1-8AE6-9C70B4BE6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F2DF6-C074-4DDE-9D97-F0250E7C5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516D8-C070-4A22-A278-095475D9A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43BB-026B-4298-BCF9-7E4CFB4FA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9E2C2-E46B-4AD4-BBF1-CEF437D10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44543-E2FD-48E4-80B7-CC598886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5B930-22CB-4FF8-811B-FAC6B69B3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ED908-87C1-4888-B4D2-42A32DC9D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D1AB4-D7B6-470F-AF31-85D961EC8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2A795-9C05-4D86-82D1-CF30BEE93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6B86B-8790-4437-8BEF-5BD76433E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2D096-7D85-4AE0-A97F-E844A4EFA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3B51B-62B2-4824-ABFF-4B660886D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3585F-6337-428A-ACA3-7C66EBDC5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0AFE-80B1-4D6E-8C5F-CEA2FAE0C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E891B-CDE5-4811-A898-C66094118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7A77BB-A7EF-4E9E-93E0-9047C0CD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DF4CDC-6FDB-4A7A-89EC-15AE42C5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38893-95EF-45ED-8EBD-419006A16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8C6224-66B9-48AF-8C97-124FE0F89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1E010-CD50-4CB6-83AE-50F9B98A2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4F48A-82B6-479A-8F01-5AEAC8E39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66DD4-746E-4B06-97B4-66B38CD59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4EC38-A634-42A3-8560-8D230F2F9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7FE79-CF1E-4ACB-A7E2-9440D1D8F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A675-5CF4-4F10-8521-AB28E6340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5E763-369C-424C-AE83-E671EAC89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49BE5-C68A-4701-8A31-D553DB90D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61254-EB7B-4B15-8F78-874C4BB28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70C8C-41C9-4FE5-A5A8-92F04E37E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994B6-AF44-46E4-B8C1-203CC7C20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F04A1-C14F-480E-9C3F-77333CA00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6D022-6B50-45DB-BAF2-7AA3BCD19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639AC7-714C-43A2-87A0-8CB548F6D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80671-AA5B-4ABF-B0BF-CBA3449E2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9BBB71-BBA7-43D6-9F89-5E70A43FC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76FA-BE21-495D-B4BB-ED73BD3BF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51206-7700-4D15-A7C8-0DA3D551E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A36EE-EFDB-4B4A-8E95-CC013C7C3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62C9B8-8497-426C-9CB7-FEB926A17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86B34E-FA2F-4B41-98B7-F1407456C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65635-A214-4EE1-97D1-D75DD2277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E72C7A-3058-491E-B2D3-E428183EC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D5397-CF0F-4B20-A084-6E7E7C7E0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50E6F1-C291-417E-9347-B7D21C813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6BFE6F-83EF-4550-806B-5378F58AF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124E9-FC65-4C87-823C-720CAF246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DA5C-205A-4881-9ADA-35FB359CF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B64EE-C0F5-4187-98A3-93CD7D602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879294-9CEB-4757-BAD9-B59A9EEB5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07284A-50BB-4F58-AEA8-930B1C73F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A6D66F-5CEA-4E2A-8D20-2A6738BD5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A5C46B-237C-4038-BC43-2C49F09CB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BC2309-0D27-4824-A635-B74A6BE25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D7CB45-8ECF-434C-8C6B-1C1143BA8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CA3823-5971-45E0-BE73-5E03887A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AC89DB-E987-4F98-9F38-BF2616C8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875B78-F77B-4AEB-AC2A-7BEE0E6C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8A45-6C5F-467A-9B2B-4EC00B7F2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E7A7F6-5C67-4F2B-AA1A-BB8AEAB8E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F8DC62-73EF-4FE2-91BC-7DF48A310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23D39-26EE-47CA-A30A-D4E2ECA2A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601574-F079-4192-AAA7-C65D11AF1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8196E6-E919-4A5F-8947-5A52546C3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0476CD-FBAE-4CBC-9BBE-6A4DF8AC5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B55F9D-1407-4E37-AD1F-362FC6FC2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937CE7-AD94-454C-BFDE-CF783EFED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4587F6-12EF-45F1-BF58-B8DFBD2B7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2A050C-491F-4B13-BB43-20211B1CD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772A-3E10-437B-AB58-FC968B0E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801D57-46AF-4D64-A03C-24AD4C67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528BBD-52A7-4331-BE3F-94FB84B4B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378221-C04D-4AB9-94AF-7802C235F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D314FC-1526-486F-8FCA-5DBA1535B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0BE0B5-2164-4810-B56D-E118B1673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805819-E944-413B-8F52-7124738EB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1FE9DD-6727-4FAF-968F-44CBFD719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C1F40B-0E7F-4087-9F1A-0B9CABC9F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F0E45B-452E-4540-AF6D-C657CCCEC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99FBF7-8EFF-4EEA-8FA5-9170CC48E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DD31-9F73-4DE4-A13A-41D7B3CF1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681071-84E0-40EC-BCE0-AAD3B2766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0B3FAA-E24C-4451-8F5C-45F3FF91A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58A3BE-19F2-4E6B-9FD5-BF6875195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E49E98-3721-419D-B07B-B5FA7EEB4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4048200"/>
            <a:ext cx="822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6D4CD3-CD83-446B-88C0-62D72950B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4048200"/>
            <a:ext cx="40158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3A8553-1DAA-4B2C-AA91-4B9B77112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4048200"/>
            <a:ext cx="26496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7B4A2A-1569-4D4C-9376-505CF956A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E6E355-64EC-4243-805D-3FDF88EBD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E72DB0-7C20-482B-9CF4-38181F83B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86FFD4-662D-4694-8B27-5758FC617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00E54-33B3-480A-9BB0-07214359CA07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5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8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9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30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9FF55-E0E0-4F5E-83B8-62C4D238ECE1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9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31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32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3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A3458-41C5-48BD-864C-78ED5C6705A3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685800" y="3197160"/>
            <a:ext cx="77724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A21DC-FCD7-4891-98C5-DD8436360A5D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7308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5330880" y="6400440"/>
            <a:ext cx="373392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1DAB7-32BA-4C79-9C64-8791EA2C78F6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2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矩形 8"/>
          <p:cNvSpPr/>
          <p:nvPr/>
        </p:nvSpPr>
        <p:spPr>
          <a:xfrm>
            <a:off x="685800" y="3143160"/>
            <a:ext cx="77724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280FA-51AE-4E62-989C-C3E3643E4E44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7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E6946-F6BA-4BF8-BFF3-F3D2FC642BE7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93135-7F12-41A9-B9ED-47A7B48D47AD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4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5" name="矩形 8"/>
          <p:cNvSpPr/>
          <p:nvPr/>
        </p:nvSpPr>
        <p:spPr>
          <a:xfrm>
            <a:off x="457200" y="1411200"/>
            <a:ext cx="82296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9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20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21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BEAC7-6223-49F3-A7ED-8354DF38BEB0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8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DD26C-4471-4A65-BC71-D1F1C2807EF1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矩形 6"/>
          <p:cNvSpPr/>
          <p:nvPr/>
        </p:nvSpPr>
        <p:spPr>
          <a:xfrm>
            <a:off x="0" y="6678720"/>
            <a:ext cx="9144000" cy="17928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1" name="矩形 7"/>
          <p:cNvSpPr/>
          <p:nvPr/>
        </p:nvSpPr>
        <p:spPr>
          <a:xfrm>
            <a:off x="0" y="0"/>
            <a:ext cx="9144000" cy="108000"/>
          </a:xfrm>
          <a:prstGeom prst="rect">
            <a:avLst/>
          </a:prstGeom>
          <a:gradFill rotWithShape="0">
            <a:gsLst>
              <a:gs pos="0">
                <a:srgbClr val="918415">
                  <a:alpha val="40000"/>
                </a:srgbClr>
              </a:gs>
              <a:gs pos="100000">
                <a:srgbClr val="91841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2" name="矩形 8"/>
          <p:cNvSpPr/>
          <p:nvPr/>
        </p:nvSpPr>
        <p:spPr>
          <a:xfrm>
            <a:off x="2786040" y="1054080"/>
            <a:ext cx="5904000" cy="17640"/>
          </a:xfrm>
          <a:prstGeom prst="rect">
            <a:avLst/>
          </a:prstGeom>
          <a:gradFill rotWithShape="0">
            <a:gsLst>
              <a:gs pos="0">
                <a:srgbClr val="dcd9cc">
                  <a:alpha val="50196"/>
                </a:srgbClr>
              </a:gs>
              <a:gs pos="100000">
                <a:srgbClr val="dcd9cc">
                  <a:alpha val="2000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2f2f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2f2f2f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Wingdings 2" charset="2"/>
              <a:buChar char="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76320" y="6400440"/>
            <a:ext cx="3200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6"/>
          </p:nvPr>
        </p:nvSpPr>
        <p:spPr>
          <a:xfrm>
            <a:off x="5333760" y="6400440"/>
            <a:ext cx="373356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7"/>
          </p:nvPr>
        </p:nvSpPr>
        <p:spPr>
          <a:xfrm>
            <a:off x="4114800" y="6400440"/>
            <a:ext cx="914400" cy="284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02A3E-8178-434B-A811-0D9962853FF5}" type="slidenum">
              <a:rPr b="0" lang="zh-CN" sz="1100" spc="-1" strike="noStrike">
                <a:solidFill>
                  <a:srgbClr val="636363"/>
                </a:solidFill>
                <a:latin typeface="Times New Roman"/>
                <a:ea typeface="黑体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4000" y="2852640"/>
            <a:ext cx="7848360" cy="1392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6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宋体"/>
                <a:ea typeface="宋体"/>
              </a:rPr>
              <a:t>第十章 纤毛虫</a:t>
            </a:r>
            <a:br>
              <a:rPr sz="4800"/>
            </a:br>
            <a:r>
              <a:rPr b="1" lang="en-US" sz="4800" spc="-1" strike="noStrike">
                <a:solidFill>
                  <a:srgbClr val="0000cc"/>
                </a:solidFill>
                <a:latin typeface="宋体"/>
                <a:ea typeface="宋体"/>
              </a:rPr>
              <a:t>Ciliate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0000cc"/>
                </a:solidFill>
                <a:latin typeface="宋体"/>
                <a:ea typeface="宋体"/>
              </a:rPr>
              <a:t>结肠小袋纤毛虫</a:t>
            </a:r>
            <a:br>
              <a:rPr sz="4800"/>
            </a:br>
            <a:r>
              <a:rPr b="1" i="1" lang="en-US" sz="4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Balantidium coli</a:t>
            </a:r>
            <a:endParaRPr b="0" lang="en-US" sz="48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1403280" y="5300640"/>
            <a:ext cx="6400800" cy="7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贾默稚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图片 5" descr=""/>
          <p:cNvPicPr/>
          <p:nvPr/>
        </p:nvPicPr>
        <p:blipFill>
          <a:blip r:embed="rId2"/>
          <a:stretch/>
        </p:blipFill>
        <p:spPr>
          <a:xfrm>
            <a:off x="1835280" y="3976560"/>
            <a:ext cx="3201840" cy="2881440"/>
          </a:xfrm>
          <a:prstGeom prst="rect">
            <a:avLst/>
          </a:prstGeom>
          <a:ln w="0">
            <a:noFill/>
          </a:ln>
        </p:spPr>
      </p:pic>
      <p:pic>
        <p:nvPicPr>
          <p:cNvPr id="491" name="图片 4" descr=""/>
          <p:cNvPicPr/>
          <p:nvPr/>
        </p:nvPicPr>
        <p:blipFill>
          <a:blip r:embed="rId3"/>
          <a:stretch/>
        </p:blipFill>
        <p:spPr>
          <a:xfrm>
            <a:off x="5867280" y="2781360"/>
            <a:ext cx="3043440" cy="302400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3459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形态</a:t>
            </a:r>
            <a:endParaRPr b="0" lang="en-US" sz="32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468360" y="12682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滋养体：椭圆形，无色透明或淡灰绿色，全身披有纤毛。有胞口、胞肛结构。虫体中、后部各有一伸缩泡。染色标本可见大、小核各一个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4" name="矩形 2"/>
          <p:cNvSpPr/>
          <p:nvPr/>
        </p:nvSpPr>
        <p:spPr>
          <a:xfrm>
            <a:off x="324000" y="3068640"/>
            <a:ext cx="79930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包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球形或近球形，淡黄或淡绿色，囊壁厚，染色后可见明显的大核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2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内容占位符 2" descr=""/>
          <p:cNvPicPr/>
          <p:nvPr/>
        </p:nvPicPr>
        <p:blipFill>
          <a:blip r:embed="rId2"/>
          <a:stretch/>
        </p:blipFill>
        <p:spPr>
          <a:xfrm>
            <a:off x="1990800" y="1262160"/>
            <a:ext cx="5533920" cy="502452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生活史</a:t>
            </a:r>
            <a:r>
              <a:rPr b="1" lang="zh-CN" sz="3200" spc="-1" strike="noStrike">
                <a:solidFill>
                  <a:srgbClr val="2f2f2f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2f2f2f"/>
              </a:solidFill>
              <a:latin typeface="Franklin Gothic Medium"/>
            </a:endParaRPr>
          </a:p>
        </p:txBody>
      </p:sp>
      <p:grpSp>
        <p:nvGrpSpPr>
          <p:cNvPr id="497" name="组合 5"/>
          <p:cNvGrpSpPr/>
          <p:nvPr/>
        </p:nvGrpSpPr>
        <p:grpSpPr>
          <a:xfrm>
            <a:off x="2241720" y="1346040"/>
            <a:ext cx="5287680" cy="4365720"/>
            <a:chOff x="2241720" y="1346040"/>
            <a:chExt cx="5287680" cy="4365720"/>
          </a:xfrm>
        </p:grpSpPr>
        <p:sp>
          <p:nvSpPr>
            <p:cNvPr id="498" name="TextBox 3"/>
            <p:cNvSpPr/>
            <p:nvPr/>
          </p:nvSpPr>
          <p:spPr>
            <a:xfrm>
              <a:off x="3852000" y="3285000"/>
              <a:ext cx="1080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宋体"/>
                </a:rPr>
                <a:t>人体内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499" name="TextBox 6"/>
            <p:cNvSpPr/>
            <p:nvPr/>
          </p:nvSpPr>
          <p:spPr>
            <a:xfrm>
              <a:off x="2241720" y="3295800"/>
              <a:ext cx="1080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cc"/>
                  </a:solidFill>
                  <a:latin typeface="宋体"/>
                </a:rPr>
                <a:t>外环境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0" name="TextBox 7"/>
            <p:cNvSpPr/>
            <p:nvPr/>
          </p:nvSpPr>
          <p:spPr>
            <a:xfrm>
              <a:off x="3973680" y="1699920"/>
              <a:ext cx="1080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脱囊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1" name="TextBox 8"/>
            <p:cNvSpPr/>
            <p:nvPr/>
          </p:nvSpPr>
          <p:spPr>
            <a:xfrm>
              <a:off x="6372000" y="2915280"/>
              <a:ext cx="1080000" cy="36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2" name="TextBox 9"/>
            <p:cNvSpPr/>
            <p:nvPr/>
          </p:nvSpPr>
          <p:spPr>
            <a:xfrm>
              <a:off x="6197760" y="4016160"/>
              <a:ext cx="133164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宋体"/>
                </a:rPr>
                <a:t>结肠内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宋体"/>
                </a:rPr>
                <a:t>定居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3" name="TextBox 10"/>
            <p:cNvSpPr/>
            <p:nvPr/>
          </p:nvSpPr>
          <p:spPr>
            <a:xfrm>
              <a:off x="2700000" y="1346040"/>
              <a:ext cx="14482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0000"/>
                  </a:solidFill>
                  <a:latin typeface="宋体"/>
                </a:rPr>
                <a:t>感染期包囊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4" name="矩形 4"/>
            <p:cNvSpPr/>
            <p:nvPr/>
          </p:nvSpPr>
          <p:spPr>
            <a:xfrm>
              <a:off x="3973680" y="5229360"/>
              <a:ext cx="66960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505" name="矩形 12"/>
            <p:cNvSpPr/>
            <p:nvPr/>
          </p:nvSpPr>
          <p:spPr>
            <a:xfrm>
              <a:off x="2268360" y="5351400"/>
              <a:ext cx="669600" cy="36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 txBox="1"/>
          <p:nvPr/>
        </p:nvSpPr>
        <p:spPr>
          <a:xfrm>
            <a:off x="1187280" y="691920"/>
            <a:ext cx="777744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生活史过程：包囊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滋养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包囊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寄生部位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结肠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生殖方式：以二分裂为主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传染源：猪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感染阶段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感染期包囊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463320" indent="-46332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感染方式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经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致病与诊断</a:t>
            </a:r>
            <a:r>
              <a:rPr b="1" lang="zh-CN" sz="3200" spc="-1" strike="noStrike">
                <a:solidFill>
                  <a:srgbClr val="2f2f2f"/>
                </a:solidFill>
                <a:latin typeface="宋体"/>
                <a:ea typeface="宋体"/>
              </a:rPr>
              <a:t> </a:t>
            </a:r>
            <a:endParaRPr b="0" lang="en-US" sz="32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致病：滋养体分泌透明质酸酶并借助机械运动侵入结肠黏膜及黏膜下层，引起溃疡（似溶组织内阿米巴痢疾）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可能是一种机会致病原虫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表现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症状型、急性型和慢性型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无症状型：即初期潜伏型。在粪便中可找到虫体，但无相关症状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矩形 2"/>
          <p:cNvSpPr/>
          <p:nvPr/>
        </p:nvSpPr>
        <p:spPr>
          <a:xfrm>
            <a:off x="468360" y="3429000"/>
            <a:ext cx="8280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诊断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直接涂片查滋养体，乙状结肠镜取黏膜组织活检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0" name="矩形 3"/>
          <p:cNvSpPr/>
          <p:nvPr/>
        </p:nvSpPr>
        <p:spPr>
          <a:xfrm>
            <a:off x="382680" y="714240"/>
            <a:ext cx="8286480" cy="17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急性型：即痢疾型。发病突然，腹痛、腹泻、黏液血便；可有并发症，也可累及肠外组织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慢性型：周期性腹泻，或腹泻、便秘交替，常排出黏液但无脓血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流行与防治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流行</a:t>
            </a:r>
            <a:r>
              <a:rPr b="1" lang="zh-CN" sz="3200" spc="-1" strike="noStrike">
                <a:solidFill>
                  <a:srgbClr val="2f2f2f"/>
                </a:solidFill>
                <a:latin typeface="宋体"/>
                <a:ea typeface="宋体"/>
              </a:rPr>
              <a:t>  </a:t>
            </a:r>
            <a:endParaRPr b="0" lang="en-US" sz="3200" spc="-1" strike="noStrike">
              <a:solidFill>
                <a:srgbClr val="2f2f2f"/>
              </a:solidFill>
              <a:latin typeface="Franklin Gothic Medium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755640" y="1196640"/>
            <a:ext cx="822960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 algn="just">
              <a:lnSpc>
                <a:spcPts val="4198"/>
              </a:lnSpc>
              <a:spcBef>
                <a:spcPts val="1199"/>
              </a:spcBef>
              <a:buClr>
                <a:srgbClr val="2f2f2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世界性分布。在我国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个省、自治区有散在病例报道。宿主广，已知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多种动物可感染此虫，猪为重要的传染源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608040" indent="-608040" algn="just">
              <a:lnSpc>
                <a:spcPts val="4198"/>
              </a:lnSpc>
              <a:spcBef>
                <a:spcPts val="1199"/>
              </a:spcBef>
              <a:buClr>
                <a:srgbClr val="2f2f2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粪便污染及蝇的机械携带包嚢是重要的传播方式，主要是包嚢污染的食物和饮水经口感染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608040" indent="-608040"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防治原则同溶组织内阿米巴，注意个人和饮食卫生，加强猪粪便的管理，保护水源，用甲硝唑治疗。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608040" indent="-608040"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6T13:12:27Z</dcterms:created>
  <dc:creator>shi</dc:creator>
  <dc:description/>
  <dc:language>en-US</dc:language>
  <cp:lastModifiedBy>hzg</cp:lastModifiedBy>
  <dcterms:modified xsi:type="dcterms:W3CDTF">2015-10-05T12:54:03Z</dcterms:modified>
  <cp:revision>27</cp:revision>
  <dc:subject/>
  <dc:title>结肠小袋纤毛虫 Balantidium coli</dc:title>
</cp:coreProperties>
</file>